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43D-BEB1-4F4F-B37A-0F9E2325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E45-7382-4AAF-AA60-8E494DA5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0A1-88C0-46B8-B101-AF87001C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C4B-7D7E-4A54-B27C-F7743C0C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89B9-A853-4E5E-BCC5-D926D334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7EBB-38EC-4C5D-AB94-FBEBBEDE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8333-3C6D-45CF-ADC0-B8F6635F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EE2B-7953-417B-B289-7BA16A60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475F-14A0-4CA0-BBA0-AD58A906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4395-325B-45F8-B151-9719963E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1EC6-E7A3-4DA6-9CC1-6C4F8FAC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9E8-F811-4A6D-A80D-0140954A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5A93-1899-4BD1-830C-A4E80E8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4F0F-05D1-4E94-95E5-3374E23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19F1-B7B0-4915-84AC-7CA6DC85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6E6C-6110-4721-86E4-260567F0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2510-6C60-46C6-90BB-7EFE3287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DF7-F458-4A6F-946D-57C256D2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A2B-6AE7-4CE6-A46F-73B14ED4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3F7-7246-446A-8E7D-84FE93EB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D54-2A9F-462C-8C8A-EC7A70F8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C1E-608F-4D72-9DB9-65C10195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DDD-A4B4-438D-B12B-104881ED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F82-DAC5-498B-9C6D-C3906ED8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F686-935E-4D5E-8131-FB5E0A18F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FA08-9C6D-49F0-A09B-8F0FA6F6B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3380d"/>
                </a:solidFill>
                <a:latin typeface="Arial Black"/>
              </a:rPr>
              <a:t>La Mansión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705720" cy="4810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93080" y="5867280"/>
            <a:ext cx="47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Por Matthew Max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2943360"/>
            <a:ext cx="5881680" cy="3914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71800" y="152280"/>
            <a:ext cx="373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</a:rPr>
              <a:t>Es un patio. Es muy magnifico y incredib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2048040"/>
            <a:ext cx="6705720" cy="4809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Es una mansi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n. Es muy grande, nuevoa, y bonit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2222640"/>
            <a:ext cx="6705720" cy="4635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14600" y="304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Es una ba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ñ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o. Es muy nuevoa, modernoa, y fabuloso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239240" cy="4495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8120" y="228600"/>
            <a:ext cx="46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s una sala. La sala es muy grande y moder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90920" y="22860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Es una cocina. Es muy nuevoa y estupendo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52480" y="3319560"/>
            <a:ext cx="50911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2090880"/>
            <a:ext cx="7162920" cy="4767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14400" y="152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Es un comerdor. Es muy moderno y incredible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76520" y="2346480"/>
            <a:ext cx="5638680" cy="4511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1080" y="3049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Es un cuatro. Es muy bello y peque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ñ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52480" y="2629080"/>
            <a:ext cx="5639040" cy="4228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28800" y="6094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Es un jardin. Es muy grande y estupendo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Luxurious Californian Mansion - Garage"/>
          <p:cNvPicPr/>
          <p:nvPr/>
        </p:nvPicPr>
        <p:blipFill>
          <a:blip r:embed="rId1"/>
          <a:stretch/>
        </p:blipFill>
        <p:spPr>
          <a:xfrm>
            <a:off x="1295280" y="1628640"/>
            <a:ext cx="6972480" cy="522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81080" y="15228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Es un garaje. Es muy grande y boni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5:17Z</dcterms:created>
  <dc:creator>maxwellmat</dc:creator>
  <dc:description/>
  <dc:language>en-US</dc:language>
  <cp:lastModifiedBy>maxwellmat</cp:lastModifiedBy>
  <dcterms:modified xsi:type="dcterms:W3CDTF">2013-04-03T18:11:31Z</dcterms:modified>
  <cp:revision>12</cp:revision>
  <dc:subject/>
  <dc:title>La Mansion</dc:title>
</cp:coreProperties>
</file>